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EB1-3FD0-4AD7-A6D6-54996E5B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711-D29E-4F9C-8A56-AE96D095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13C-CAB6-40BE-B053-8533DE4C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CF4-5FEA-4D47-AFB1-A68568BB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43C6-0518-4746-B291-613C6805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46C5-41BA-47CE-95EC-73863A9B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1FCC-1468-4C59-9344-3EF67B7A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BCBB-511F-4AB6-A622-9506D8B6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D381-CDA6-40DE-8B68-D98B9C83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6DBF-ABC6-46E7-A6EB-8CDD8E8F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4068-B13A-4C63-9802-E76611FC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1D1-EB64-4DF9-A278-49968174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76F2-9C2D-4D0F-8895-D1C6FAB3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9E83-C34F-4DF1-8867-59CB3625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7667-FDFD-4BD7-AEC7-6A20B6BD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B9E8-81A3-45EF-82D6-98A0905A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9A65-B92C-498E-A9A9-E9988CD0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B5D-B5BF-47EE-B8A5-E19562BB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9A4-372A-4A7F-AC9A-B5BCCFF8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C4B-1EF0-4368-BBCC-86AB5297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192-3886-4B08-B14F-EC833E04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4F16-0FE2-4780-B2A5-D408E324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E5A-69F3-48C3-ABFF-CD2F6FA9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09B-2035-4057-AF57-53170AC3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3916-4C2E-48CF-86FA-5CCF51347E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AE03-B12C-4097-92AB-0776627327C8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l Subjuntivo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d How to Use the Subjunctive M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072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O NOT USE SUBJUNCTIV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ressing facts, beliefs, truth, certainties or the obvio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066680" y="1828800"/>
          <a:ext cx="7620120" cy="4950000"/>
        </p:xfrm>
        <a:graphic>
          <a:graphicData uri="http://schemas.openxmlformats.org/drawingml/2006/table">
            <a:tbl>
              <a:tblPr/>
              <a:tblGrid>
                <a:gridCol w="3657600"/>
                <a:gridCol w="3962520"/>
              </a:tblGrid>
              <a:tr h="15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ER /PENSA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UE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o que la película “Up” es excele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 believe/think (for a fac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t…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panish expresses certainty, unlike in Englis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 OBVIO/CIERTO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DA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 perros son mejores que los ga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’s obvious, certain, true that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HAY DUDA QUE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Sra. Kim es intelig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re is no doubt that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BER QUE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o sé que mis estudiantes estudian much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 know (for a fact) that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9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lso do not use Subjunctive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hen discussing people or things we know exist.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hay una secretaria que hable españ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Hay una secretaria que hable españo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í, </a:t>
            </a:r>
            <a:r>
              <a:rPr b="0" lang="en-US" sz="3200" spc="-1" strike="noStrike">
                <a:solidFill>
                  <a:srgbClr val="dd5774"/>
                </a:solidFill>
                <a:latin typeface="Tahoma"/>
              </a:rPr>
              <a:t>ha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 secretaria que </a:t>
            </a:r>
            <a:r>
              <a:rPr b="0" lang="en-US" sz="3200" spc="-1" strike="noStrike">
                <a:solidFill>
                  <a:srgbClr val="dd5774"/>
                </a:solidFill>
                <a:latin typeface="Tahoma"/>
              </a:rPr>
              <a:t>habl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añ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Buscar…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219320"/>
            <a:ext cx="77724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co una camisa que tenga una foto de Elv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5774"/>
                </a:solidFill>
                <a:latin typeface="Tahoma"/>
              </a:rPr>
              <a:t>Busc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amisa que </a:t>
            </a:r>
            <a:r>
              <a:rPr b="0" lang="en-US" sz="3200" spc="-1" strike="noStrike">
                <a:solidFill>
                  <a:srgbClr val="dd5774"/>
                </a:solidFill>
                <a:latin typeface="Tahoma"/>
              </a:rPr>
              <a:t>tien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foto de Elv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Subjunctive Conjugations</a:t>
            </a:r>
            <a:br>
              <a:rPr sz="4000"/>
            </a:b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egin with the Yo form, drop –o and add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2057400"/>
          <a:ext cx="6934320" cy="446724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  <a:gridCol w="2311560"/>
              </a:tblGrid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 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/IR ve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-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-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-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Él, ella,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-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-e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-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-é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-á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los, ellas, Ud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-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-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Yo irregular verbs: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er (cai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r (di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cer (ha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ir (oi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ner (pon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ir (sal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nir (ven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er (ten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er (trai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ore irregulars: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914040"/>
            <a:ext cx="77724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ber (quep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ocer (conozc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cer (nazc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ecer (parezc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ir (construy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truir (destruy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 (ve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tem Changing Verbs: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n Ar or Er verb is stem change in the present tense, there will be a change in the Subjunctive Conjugation, but not in the Nosotros form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r stem changing verbs maintain the stem change of the present tense but for nosotros follow (e-i, o-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52280" y="1066680"/>
          <a:ext cx="8763120" cy="5033880"/>
        </p:xfrm>
        <a:graphic>
          <a:graphicData uri="http://schemas.openxmlformats.org/drawingml/2006/table">
            <a:tbl>
              <a:tblPr/>
              <a:tblGrid>
                <a:gridCol w="2367000"/>
                <a:gridCol w="2131920"/>
                <a:gridCol w="2132280"/>
                <a:gridCol w="21319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initive ver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ent tense 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bjun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bjun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d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Pid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s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e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e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se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r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u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uer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durm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e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ien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ie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end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rv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er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er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Hirv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e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ien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ie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end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e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e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e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i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prefir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Stem Changing Verbs: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rregular Verbs: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2600" y="2803680"/>
          <a:ext cx="3810240" cy="25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2600" y="2803680"/>
                    <a:ext cx="381024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838080" y="1219320"/>
          <a:ext cx="7696440" cy="5462280"/>
        </p:xfrm>
        <a:graphic>
          <a:graphicData uri="http://schemas.openxmlformats.org/drawingml/2006/table">
            <a:tbl>
              <a:tblPr/>
              <a:tblGrid>
                <a:gridCol w="1881360"/>
                <a:gridCol w="581508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bjunctive Conjug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Esté, estés, esté, estemos, estéis, esté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des,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demos, deis, 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ya, vayas, vaya, vayamos, vayáis, vay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a, sepas, sepa, sepamos, sepáis, sep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ya, hayas, haya, hayamos, hayáis, hay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a, seas, sea, seamos, seáis, s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pelling Changes: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CA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QU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GA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G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ZA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C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GE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J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GUI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U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CE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Hacer and Conocer do not follow the spelling change rule *excep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1295280"/>
            <a:ext cx="685800" cy="181080"/>
          </a:xfrm>
          <a:prstGeom prst="rightArrow">
            <a:avLst>
              <a:gd name="adj1" fmla="val 50000"/>
              <a:gd name="adj2" fmla="val 94682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3048120"/>
            <a:ext cx="685800" cy="180720"/>
          </a:xfrm>
          <a:prstGeom prst="rightArrow">
            <a:avLst>
              <a:gd name="adj1" fmla="val 50000"/>
              <a:gd name="adj2" fmla="val 94871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1828800"/>
            <a:ext cx="685800" cy="181080"/>
          </a:xfrm>
          <a:prstGeom prst="rightArrow">
            <a:avLst>
              <a:gd name="adj1" fmla="val 50000"/>
              <a:gd name="adj2" fmla="val 94682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2438280"/>
            <a:ext cx="685800" cy="181080"/>
          </a:xfrm>
          <a:prstGeom prst="rightArrow">
            <a:avLst>
              <a:gd name="adj1" fmla="val 50000"/>
              <a:gd name="adj2" fmla="val 94682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3581280"/>
            <a:ext cx="685800" cy="181080"/>
          </a:xfrm>
          <a:prstGeom prst="rightArrow">
            <a:avLst>
              <a:gd name="adj1" fmla="val 50000"/>
              <a:gd name="adj2" fmla="val 94682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4191120"/>
            <a:ext cx="685800" cy="180720"/>
          </a:xfrm>
          <a:prstGeom prst="rightArrow">
            <a:avLst>
              <a:gd name="adj1" fmla="val 50000"/>
              <a:gd name="adj2" fmla="val 94871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7136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UBJUNCTIVE MOO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n't deal with factual real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als with opinions, feelings, suppositions, dreams and specul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English the Subjunctive is less apparent. Many times is identical to the infiniti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 Spanish, the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ubjunctive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represent: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219320"/>
            <a:ext cx="77724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hings we imagine others doing (or not doing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we feel about events that have happened to oth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encompasses things that are rhetorical in our minds or emotional in our hear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Subjunctive Volition"/>
          <p:cNvPicPr/>
          <p:nvPr/>
        </p:nvPicPr>
        <p:blipFill>
          <a:blip r:embed="rId2"/>
          <a:stretch/>
        </p:blipFill>
        <p:spPr>
          <a:xfrm>
            <a:off x="990720" y="380880"/>
            <a:ext cx="7238880" cy="5429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52480" y="6065280"/>
            <a:ext cx="7010640" cy="368280"/>
          </a:xfrm>
          <a:prstGeom prst="rect">
            <a:avLst/>
          </a:prstGeom>
          <a:solidFill>
            <a:srgbClr val="fe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eanu </a:t>
            </a:r>
            <a:r>
              <a:rPr b="1" lang="en-US" sz="1800" spc="-1" strike="noStrike">
                <a:solidFill>
                  <a:srgbClr val="c481cf"/>
                </a:solidFill>
                <a:latin typeface="Tahoma"/>
              </a:rPr>
              <a:t>quiere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 la profe le </a:t>
            </a:r>
            <a:r>
              <a:rPr b="1" lang="en-US" sz="1800" spc="-1" strike="noStrike" u="sng">
                <a:solidFill>
                  <a:srgbClr val="76b749"/>
                </a:solidFill>
                <a:uFillTx/>
                <a:latin typeface="Tahoma"/>
              </a:rPr>
              <a:t>enví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un mensaje de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tex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Subjunctive Emotion"/>
          <p:cNvPicPr/>
          <p:nvPr/>
        </p:nvPicPr>
        <p:blipFill>
          <a:blip r:embed="rId2"/>
          <a:stretch/>
        </p:blipFill>
        <p:spPr>
          <a:xfrm>
            <a:off x="533520" y="0"/>
            <a:ext cx="8134200" cy="6181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71600" y="626256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eanu </a:t>
            </a:r>
            <a:r>
              <a:rPr b="1" lang="en-US" sz="1800" spc="-1" strike="noStrike">
                <a:solidFill>
                  <a:srgbClr val="c481cf"/>
                </a:solidFill>
                <a:latin typeface="Tahoma"/>
              </a:rPr>
              <a:t>se alegr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e QUE la chica</a:t>
            </a:r>
            <a:r>
              <a:rPr b="1" lang="en-US" sz="1800" spc="-1" strike="noStrike">
                <a:solidFill>
                  <a:srgbClr val="76b749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76b749"/>
                </a:solidFill>
                <a:uFillTx/>
                <a:latin typeface="Tahoma"/>
              </a:rPr>
              <a:t>sea</a:t>
            </a:r>
            <a:r>
              <a:rPr b="1" lang="en-US" sz="1800" spc="-1" strike="noStrike">
                <a:solidFill>
                  <a:srgbClr val="76b74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 nov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3 crucial elements that trigger the Subjunctive: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certainty, doubt, subje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different su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f one use Infinitive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ied that (qu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1401600">
            <a:off x="5105160" y="4952880"/>
            <a:ext cx="968400" cy="1555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715000" y="3200400"/>
            <a:ext cx="2133720" cy="1638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219800" y="1447920"/>
            <a:ext cx="19242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SUBJUNCTIVE FORMULA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S1      V1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    QUE      </a:t>
            </a:r>
            <a:r>
              <a:rPr b="1" lang="en-US" sz="3600" spc="-1" strike="noStrike">
                <a:solidFill>
                  <a:srgbClr val="dd5774"/>
                </a:solidFill>
                <a:latin typeface="Tahoma"/>
              </a:rPr>
              <a:t>S2        V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666880"/>
          <a:ext cx="8458200" cy="3124440"/>
        </p:xfrm>
        <a:graphic>
          <a:graphicData uri="http://schemas.openxmlformats.org/drawingml/2006/table">
            <a:tbl>
              <a:tblPr/>
              <a:tblGrid>
                <a:gridCol w="1752480"/>
                <a:gridCol w="1600200"/>
                <a:gridCol w="1708200"/>
                <a:gridCol w="1644840"/>
                <a:gridCol w="1752480"/>
              </a:tblGrid>
              <a:tr h="33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Subject #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Located in re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Conjugates the Indicative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Select one of th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Wedding ver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Conj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roduces the subjunctive cl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Subject #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Person in the wedding wor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Conjugates the subjunctive</a:t>
                      </a:r>
                      <a:r>
                        <a:rPr b="0" lang="en-US" sz="20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Subjun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Present 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Imperfe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Past 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09480" y="152280"/>
          <a:ext cx="8001000" cy="6615360"/>
        </p:xfrm>
        <a:graphic>
          <a:graphicData uri="http://schemas.openxmlformats.org/drawingml/2006/table">
            <a:tbl>
              <a:tblPr/>
              <a:tblGrid>
                <a:gridCol w="981360"/>
                <a:gridCol w="3321000"/>
                <a:gridCol w="3698640"/>
              </a:tblGrid>
              <a:tr h="13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WIS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DES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IMPER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Querer, necesitar, desear, mandar, ordenar, esperar, insistir, decirle, etc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E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Alegrarse, enojarse, sentir, asustarse, entristecer, etc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IMPERSON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EXPRES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Es bueno/malo qu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Es importante qu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Es posible que…etc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RECOMMEND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Recomendar, sugerir, aconsejar, etc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DOUB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DENIAL, DISBELI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Dudar que, no creer que, negar que, etc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OJAL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Ojalá qu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(Let’s hope to God that…God willing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23:25:39Z</dcterms:created>
  <dc:creator>Yung</dc:creator>
  <dc:description/>
  <dc:language>en-US</dc:language>
  <cp:lastModifiedBy>IHS</cp:lastModifiedBy>
  <dcterms:modified xsi:type="dcterms:W3CDTF">2011-04-12T16:19:48Z</dcterms:modified>
  <cp:revision>6</cp:revision>
  <dc:subject/>
  <dc:title>El Subjuntivo</dc:title>
</cp:coreProperties>
</file>